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click.wav" ContentType="audio/x-wav"/>
  <Override PartName="/ppt/media/image2.jpeg" ContentType="image/jpeg"/>
  <Override PartName="/ppt/media/image4.wmf" ContentType="image/x-wmf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4DB6-0401-44A6-A94C-784913549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E5FA-D654-4843-B878-7A1C3969E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B5A8-FD3C-493E-8E91-01BF47B4A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1AFA-1B01-4F95-A638-7EEB4AC20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863A-69A6-4F7A-8607-F5B0A6224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7024-D9B8-4B7C-81CC-22359E018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C994-342B-4162-8D71-3E3EB15D4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369E-25B3-48C0-8817-2D1A1D9EA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46E6-3423-44BD-95FD-ACD48C041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6095-095F-496C-A15C-F05E4B6C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281E-B194-440D-88D9-318F2866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2CE3-7D77-46D4-8627-FEABF940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3AD3A-8290-4023-B285-3C8C03109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Cats and do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By S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  <p:sndAc>
      <p:stSnd>
        <p:snd r:embed="rId2" name="click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C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The cat is much smarter then a dog. Cats 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Fuzz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-720" y="483480"/>
            <a:ext cx="3886200" cy="63738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  <p:sndAc>
      <p:stSnd>
        <p:snd r:embed="rId3" name="click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Cats and do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1552680"/>
            <a:ext cx="9144000" cy="53053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  <p:sndAc>
      <p:stSnd>
        <p:snd r:embed="rId3" name="click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do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755720" y="4173480"/>
            <a:ext cx="1440000" cy="17161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The wolves 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decadence of do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747800" y="1600200"/>
            <a:ext cx="1457280" cy="2185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  <p:sndAc>
      <p:stSnd>
        <p:snd r:embed="rId4" name="click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  <p:sndAc>
      <p:stSnd>
        <p:snd r:embed="rId2" name="click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0T15:22:47Z</dcterms:created>
  <dc:creator>Yellow Springs Exempted Village School District</dc:creator>
  <dc:description/>
  <dc:language>en-US</dc:language>
  <cp:lastModifiedBy>Yellow Springs Exempted Village School District</cp:lastModifiedBy>
  <dcterms:modified xsi:type="dcterms:W3CDTF">2011-11-17T15:35:43Z</dcterms:modified>
  <cp:revision>9</cp:revision>
  <dc:subject/>
  <dc:title>Pets</dc:title>
</cp:coreProperties>
</file>